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7B33-2930-4BC1-84E6-5C9313F71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278B-A90C-4022-B810-1B7D59016F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23A0-25D8-40AD-A57A-B48E00BDEC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21499-F5D0-41C5-8563-916062E7A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27376-9C4D-4A17-8550-4573E16E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6E2FE-084C-42FD-8B42-B18727DAA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D6BE4-B527-402B-B829-D31A18875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8FA9-3F08-4927-96D9-A1A4D8CC5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8538-FD36-49C5-84C8-8E843C46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F4EA-5E0D-4AB4-8272-316445A3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4025-D222-4602-A8FC-DAC7EAC3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7A03-2025-408B-A19C-8DE8E1A8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DC07-E820-449C-BB69-D6FEED66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2ECB-AFF1-43AD-8DCC-0A47094D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DCAB9-4916-4FAB-BEA6-81E679FF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9BE7-ECAD-46B3-B327-A356664A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FB97-9131-413D-AD0C-2C634CC1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4527-EE22-40D9-B5E6-78087162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5BF0-8FEC-4E30-922A-145F4873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B667-51EF-40C5-9681-20A4F7BAB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28F15-8EDF-4538-998F-0EA7BBFD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5A189-3274-46DE-96CB-483ECC01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7FFFC-88A2-40C0-A8B2-864CED79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058B7-81EC-4642-B3BA-CA383295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D6185-3530-49BC-BD9A-3525DEA1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96DAB-ECC1-4331-B2BA-7F6D952E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293E7-450E-42F1-9DBD-49066FF9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EE25-056D-49E0-BB81-E503457DD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BB8F-C500-4469-BCF4-97B1396203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72AA-3742-4D15-A342-AB59277C5A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2320" y="2361960"/>
            <a:ext cx="579096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ngravers MT"/>
              </a:rPr>
              <a:t>Business Environ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8153280" y="5905440"/>
            <a:ext cx="990720" cy="952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.  Social Objectiv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A2B6-3425-4EAB-A42B-8CE12CE226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762120" y="1371600"/>
            <a:ext cx="7467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duction and Supply of Quality Good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Servi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option of Fair Trade Practi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ibution to the General Welfare of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ocie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98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98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98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.  Human Objectiv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99B5-2EEF-4C87-B7D1-64F9313F8F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762120" y="1371600"/>
            <a:ext cx="7467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conomic Well-being of the Employe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cial and Psychological Satisfaction of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mploye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ment of Human Resour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ll-being of Socially and Economically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ckward Peop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98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98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. National Objectiv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DEAB-316A-498B-A2D9-12000D3A40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762120" y="1371600"/>
            <a:ext cx="7467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ion of Employ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motion of Social Justi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duction According to National Prior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ibute to the Revenue of the Countr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f-sufficiency and Export Promo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.  Global Objectiv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032D-65A7-4C59-A831-053DAFC5EB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762120" y="1676520"/>
            <a:ext cx="74674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aise General Standard of Liv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 Disparities Among N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ke Available Globally Competitiv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oods and Servi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98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0AF1-4F8D-4C9D-90CC-1A261B9605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218960" y="2967120"/>
            <a:ext cx="7011720" cy="18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THE END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6705720" y="609480"/>
            <a:ext cx="1898640" cy="2162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98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71FF-B74B-4149-9B71-014543F455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. NEELAMEGAM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.A., M.Phil., M.B.A., A.M.T., MIMA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nior Lecture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chool of Commerce and Business Administr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culty of Science and Humaniti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RM Universit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mil Nadu</a:t>
            </a:r>
            <a:r>
              <a:rPr b="0" lang="en-US" sz="36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RINDA PUBLICATIONS (P) LT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LHI - 110 091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ww.vrindaindia.c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300320" cy="1676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8153280" y="5905440"/>
            <a:ext cx="990720" cy="952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AA86-D6FC-4B4B-842F-A0ECAC6304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04960" y="380880"/>
            <a:ext cx="5105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HAPTER   1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04920" y="2590560"/>
            <a:ext cx="62481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Introduction to Busines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sh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D901-EEDB-47FB-9D8B-7D2F394EF2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Introductio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51920" y="277560"/>
            <a:ext cx="2133720" cy="4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04920" y="198108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Garamond"/>
              </a:rPr>
              <a:t>The Term ‘Business’ means all those human activities which are performed for making profits. Business includes purchase of goods with the object of selling them at profi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D112-2B05-4CDD-8E32-4A50EC129D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277920"/>
            <a:ext cx="76964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Characteristics of Busin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als in goods and services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le of exchange of goods and services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gular exchange of goods and services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quires investment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ims at earning profit;  a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volves risk and uncertainty of inco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98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98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98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8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98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98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5698-0DFB-4483-950F-6C9670573D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Importance of Busines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just"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siness includes the standard of living of the people by providing better quality and large variety of goods and services and the right time and at the right pla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just"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provides opportunities to work and earn livelihood. Thus, it generates employment in the Country, which in turn reduces pover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152280" y="277920"/>
            <a:ext cx="2133720" cy="1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98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98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57BE-92C5-4345-85C6-ACB5FCD2B3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ypes of Business Activit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1" name="Content Placeholder 7" descr="untitled.bmp"/>
          <p:cNvPicPr/>
          <p:nvPr/>
        </p:nvPicPr>
        <p:blipFill>
          <a:blip r:embed="rId1"/>
          <a:stretch/>
        </p:blipFill>
        <p:spPr>
          <a:xfrm>
            <a:off x="1380960" y="1981080"/>
            <a:ext cx="66963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4B72-A96D-45AE-9C3E-DE8B536790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277920"/>
            <a:ext cx="76964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Objective of Busines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6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conomic Objectiv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cial Objectiv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uman Objectiv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tional Objectiv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lobal Objectiv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.  Economic Objectiv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EACA-F799-430F-90A0-8AA764BDBB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762120" y="1371600"/>
            <a:ext cx="7467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fit Ear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ion of custom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gular innov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st possible use of resour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98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98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98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06:58:02Z</dcterms:created>
  <dc:creator>ADTW DEPARTMENT</dc:creator>
  <dc:description/>
  <dc:language>en-US</dc:language>
  <cp:lastModifiedBy>abc</cp:lastModifiedBy>
  <dcterms:modified xsi:type="dcterms:W3CDTF">2010-07-23T07:30:17Z</dcterms:modified>
  <cp:revision>129</cp:revision>
  <dc:subject/>
  <dc:title>NEELA</dc:title>
</cp:coreProperties>
</file>